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C925-08F3-4E64-B9B3-EEDB671EEAF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EAF-AE04-404A-B87D-34536C74D15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19E-56DF-417A-91BD-B3C020ACA79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812-1D81-4B64-B7C1-555B4107498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F9B-7F67-42C6-A222-3E7CF86A706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8958-50B5-4C4F-B051-3DFDDBF6C60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3925-1992-43B4-A78F-4EE1E28E8EB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0B7-2EF1-4898-A01B-6190FEC98E1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62BA-6FFA-4F9B-823B-FD1B3401D0B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E58C-9DBB-4983-AAE5-BED7ABBC0A9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8609-6146-4C0D-99B3-3556016A42F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71E-CB4D-402B-9216-CE756180ED9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DB52-1F5E-45C9-BEF4-EF8E9E70E63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78CD-07CC-4365-9F69-47EECD6AC49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37F9-6715-48AA-A0D2-D2F64E62AC0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3C4E-0285-4C3A-9C66-6A646A15137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3D5-67E5-4695-83E5-A87BDB05585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A20C-8784-4697-8C37-9BD96804F6B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7AD-DE19-4259-937A-790B7778BB9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DEC-8BFF-4E63-B06B-8DFC70B04F4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36C-B4A1-4FFE-A8A0-BB1EAF6213C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357-1584-411A-A3CF-C761D1875CF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CDEA-626E-4E75-BA5C-C8199F1C28C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17A0-3D2F-49F7-A638-B037C854290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F78F-9799-41D3-ACB6-B6265E25BA4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9DE4-A1FA-4880-8C6C-EE43D4D6A2D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4D96-B200-4D21-A897-9EB7D9EC42D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AE99-DA22-49CE-9257-D95E1BFABB7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3DAA-6EFF-4F08-B257-8E20C5A13D7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FE4C-DB0C-457C-BBFA-E0B85F83C43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4E61-CE8E-498D-887E-97AF063FDB6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59EA-CE7E-45CA-83DB-D5E4A0DA30B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2ED-4B31-4D73-B472-2A8D829605D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42CA-0CBF-46DF-8B1F-4717574F4A44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1E1C-A941-4894-ABBC-431EE6DD83E4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09A-8614-4CE4-B0CE-4AC1E4A605B3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6B02-6CA1-49A6-8BBC-6FA7EAB86277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E1A3-C62F-41CE-AF76-00A07272C45D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9B61-52D9-4F82-8C3D-6D496418F7C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5B1-75C2-4B1C-9B68-0BB1DC51AA19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B3E2-CEA5-4B7D-84E8-6008D3F4AF51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048-C0AD-4AE5-BEC6-54047EF9CB85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293D-9CBD-4875-9468-5F0FD63FA07E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8521-1B24-496A-BE06-3F23D792D25B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BEC-A1C4-44F1-8E5F-19E9F0C61D77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AF3D-41C3-448F-90CA-E781BD306DFB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1EF-987F-43E1-A82F-2F45477F64B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292-7B5E-4055-B45B-62F61960376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F07-26D4-4A9F-A954-F8E8C3ECC81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3E5-0F5D-43BE-B18E-4FF9199DB4C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2771-7C5A-4264-A4D3-46ECE9A2F94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830-EAC1-4B8A-8011-B8F8F836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AAC-A87C-4D57-8809-FE5DE95A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C42-7B86-416B-B5DF-A8879C45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7B1-BE29-4127-A7EC-DA695DE6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C592-8F24-49BE-BBB9-FAC14BC4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623-3B81-4CB0-94D6-B2D96866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A066-C890-4FC9-82A4-58A596AD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C3D7-BE69-4D04-93FF-FCBA80CB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D644-2FB8-4A77-8D2D-C5FBED2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E554-3CBC-4754-A353-0CBC4A21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FE78-F9B0-40A4-99D9-4FA37C0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08C-334F-499E-9C1D-54A1C65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C4FC-FB82-4D66-B582-7C4AFA52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C608-614D-49B7-B072-1DA13B59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A1F9-0E95-4486-856E-0BBCA40D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4BE9-D79A-45F4-A307-FFBDBC30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498A-D426-46BA-BF8D-86DE065D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A4209-0756-48FE-96BC-D2416677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165C0-DA74-466E-9B87-55C9AE7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0A3C0-7EE0-41EE-B0BB-10F2D6D8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546F8-0CC2-4195-A6C3-BE3F4777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BE042-A71F-492D-B4F6-09A536C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982-02A3-457E-99BC-9A94DBD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FEA6E-AD87-4B69-B146-59A8BBD7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5349A-0E42-4813-83D0-A975BCA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EA217-E6A9-4BAA-B127-4BCCD1F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D9865-BDD3-40B9-85F6-207B809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9BB8B-2F34-465B-8390-6426867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FF2C2-03FF-40EE-B046-E5638D5D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59D34-7D27-4112-BB09-FC8A8BD5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49A5-A40E-43F3-8B11-045ACFF6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CF7E-5F0A-44C2-AF93-C38B3EEB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ABDE-4597-4399-9A9A-13C7939B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990-E0DB-4DA2-8BEE-4880419F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041C-E406-4D27-862C-FFEA9573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26E21-E4EB-44A4-B9B1-8004A005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6F85-EB89-4231-8DDE-22D4643C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F3120-1F47-406C-91CD-8C6E973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FD77-5E7C-42D5-975B-70BFC85B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50D8-1FFD-4F32-9A6E-B83DD8A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F268-26F1-4482-AF1B-A278F12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9FF6-97B9-4724-9353-99FDFBF7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E8B4-EF23-429B-99B4-80095235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B5D52-BA0F-41E1-8B36-D112805B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F08-2EFB-4E30-9953-345A629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79ECD-968F-4BE3-B8A7-CE458EB7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B91A1-B7BA-4D5E-A634-46D6AD5E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F4804-4508-44B3-9DF7-FD223AA8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94328-93FC-49E7-88B4-7AD55E01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0699A-5467-4D16-8B48-F97BBBE8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0A755-326B-4BF2-8520-BD942A22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308CC-48A5-4A09-AAB0-245D2EB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30237-2167-480E-AB94-2E1D683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7E7B9-C407-4DEB-B440-9539EC4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10750-6B1F-4055-B63B-68BD4542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BD7-A417-4315-9C84-7107A218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4973F-146F-4A9D-AFEF-D0A31B8C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3F835-F66E-4F29-8E00-8494E9CD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9DF37-5306-48E2-9126-D9F5EA80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9C3C0-F3F1-40B9-B4CF-87B26084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B6711-95F7-441B-B7E6-9E311E16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52E96-5F65-4B2C-A4C9-C775211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2ED98-5270-4C4B-8B91-C21754DC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18A50-94B6-4133-A98F-E7108FE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BEB0B-4FC6-4EC5-9157-A6F5839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97522-1DD4-41BD-9A00-95337B3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F55-FB70-47C9-80DE-262DFD41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FC6B8-06BF-47CF-8934-DF1D6F1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885C0-9045-4124-9929-87E16F3E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DC076-3233-45DC-94F4-EF639714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BF80B-5BBA-4FE4-8023-F9EAE4FE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5ADE8-D8DF-4D2E-A837-64A3BC6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65C1F-2DDA-424B-8C84-B208ABFB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84480-2B24-4801-9462-36396ECC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21B4A-5EC6-48ED-8093-5E07406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247D6-7038-481D-A693-4AA2762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2FF66-4583-432F-9684-C887A166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04D-81FE-427C-A7A8-3FDD9128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ECCC0-0A5E-451E-BFB2-CC7D99D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9F640-A4B5-4A82-9ACC-1481B6A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761C7-E0FA-41FA-9805-86131606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4F7E2-43D0-43BB-854D-E661E67E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C4B66-69F8-4EB7-8A19-FD68C181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752-6B4B-47A7-B3D5-F6111EF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3C2F-815F-48D7-8C7F-A9DDF8E007E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89AE-A9AF-431C-8F3D-71C7DD0F6AF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3E09-D40C-4799-B565-2F6A8351FE4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4A15-D6D9-41FE-81DF-2B11A299C84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4E29-768D-4A49-8E91-56E806AF9A1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10E7-4C25-48B6-960A-CACC2E71386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DB1-03AB-4E2E-8BF8-B679802E5BD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84000" y="1341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1f497d"/>
                </a:solidFill>
                <a:latin typeface="Century Schoolbook"/>
              </a:rPr>
              <a:t>HIDRATACIÓN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00360" y="50036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ra. Thelma Suau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pto. Ped y cirugia Infantil S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logo U"/>
          <p:cNvPicPr/>
          <p:nvPr/>
        </p:nvPicPr>
        <p:blipFill>
          <a:blip r:embed="rId1"/>
          <a:stretch/>
        </p:blipFill>
        <p:spPr>
          <a:xfrm>
            <a:off x="5508720" y="3068640"/>
            <a:ext cx="806400" cy="1512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http://t1.gstatic.com/images?q=tbn:ANd9GcRSk28m57rCwmeP74VLZyQOOyysF7QyUQ6GxcwGln-tt6wn5gHDhg"/>
          <p:cNvPicPr/>
          <p:nvPr/>
        </p:nvPicPr>
        <p:blipFill>
          <a:blip r:embed="rId2"/>
          <a:stretch/>
        </p:blipFill>
        <p:spPr>
          <a:xfrm>
            <a:off x="900000" y="333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a forma de calcular la necesidad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uperficie corpor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PESO X 4)+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PESO + 90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requiere del conocimiento del peso y talla para su cálculo 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utilización de tabla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e utiliza de preferencia en pacientes mayores de 20 Kg. Y se estiman como entre 1.800 a 2000 ml/m² s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entury Schoolbook"/>
              </a:rPr>
              <a:t>APORTE VOLUMEN HOLLIDAY V/S SC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993080" cy="5113440"/>
          </a:xfrm>
          <a:prstGeom prst="rect">
            <a:avLst/>
          </a:prstGeom>
          <a:ln w="0">
            <a:noFill/>
          </a:ln>
        </p:spPr>
      </p:pic>
      <p:sp>
        <p:nvSpPr>
          <p:cNvPr id="385" name="3 Flecha arriba"/>
          <p:cNvSpPr/>
          <p:nvPr/>
        </p:nvSpPr>
        <p:spPr>
          <a:xfrm>
            <a:off x="2587680" y="3860640"/>
            <a:ext cx="243000" cy="97812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CALCULO VELOCIDAD INFUS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7" name="2 Marcador de contenido" descr=""/>
          <p:cNvPicPr/>
          <p:nvPr/>
        </p:nvPicPr>
        <p:blipFill>
          <a:blip r:embed="rId1"/>
          <a:stretch/>
        </p:blipFill>
        <p:spPr>
          <a:xfrm>
            <a:off x="365040" y="1603440"/>
            <a:ext cx="7559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OLLID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mayor 1 año  6 meses, peso 11,5 K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x 10 =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,5 x 50  =     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 10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5 GOTAS POR MINU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70320" y="1125000"/>
            <a:ext cx="3657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PERFICIE CORP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11,5 X 4) +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: 1800- 2000 X 0,5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940 – 104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3 – 14 GOTAS/M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entury Schoolbook"/>
              </a:rPr>
              <a:t>REQUERIMIENTOS DE ELECTROLITOS: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Na+ 3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K+ 2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Cl- 5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" descr="C:\Documents and Settings\thelma\Mis documentos\Documentos Thelma\CLASES\libro_transtornos_clinicos_de_agua_electrolitos_grd.jpg"/>
          <p:cNvPicPr/>
          <p:nvPr/>
        </p:nvPicPr>
        <p:blipFill>
          <a:blip r:embed="rId1"/>
          <a:stretch/>
        </p:blipFill>
        <p:spPr>
          <a:xfrm>
            <a:off x="5796000" y="1844640"/>
            <a:ext cx="2395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DEFICIT - DES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844640"/>
          <a:ext cx="7848720" cy="4227480"/>
        </p:xfrm>
        <a:graphic>
          <a:graphicData uri="http://schemas.openxmlformats.org/drawingml/2006/table">
            <a:tbl>
              <a:tblPr/>
              <a:tblGrid>
                <a:gridCol w="2052720"/>
                <a:gridCol w="1541160"/>
                <a:gridCol w="2086200"/>
                <a:gridCol w="2168640"/>
              </a:tblGrid>
              <a:tr h="40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: le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: moder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I: se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gor y elasti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d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y 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r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 dé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ur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a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an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ón o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os hund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3251520" y="597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gnos y Síntomas según grado de deshidra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DEFICIT SEGÚN PERDIDA DE PE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844640"/>
          <a:ext cx="7529400" cy="3024360"/>
        </p:xfrm>
        <a:graphic>
          <a:graphicData uri="http://schemas.openxmlformats.org/drawingml/2006/table">
            <a:tbl>
              <a:tblPr/>
              <a:tblGrid>
                <a:gridCol w="3456000"/>
                <a:gridCol w="2089080"/>
                <a:gridCol w="1984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HIDRATA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C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DER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V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2" name="Picture 2" descr="C:\Documents and Settings\thelma\Mis documentos\Documentos Thelma\CLASES\deshidratacion21.jpg"/>
          <p:cNvPicPr/>
          <p:nvPr/>
        </p:nvPicPr>
        <p:blipFill>
          <a:blip r:embed="rId1"/>
          <a:stretch/>
        </p:blipFill>
        <p:spPr>
          <a:xfrm>
            <a:off x="539640" y="836640"/>
            <a:ext cx="3024360" cy="39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thelma\Mis documentos\Documentos Thelma\CLASES\DESHIDRATMOD.jpg"/>
          <p:cNvPicPr/>
          <p:nvPr/>
        </p:nvPicPr>
        <p:blipFill>
          <a:blip r:embed="rId2"/>
          <a:stretch/>
        </p:blipFill>
        <p:spPr>
          <a:xfrm>
            <a:off x="3564000" y="549360"/>
            <a:ext cx="42069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Documents and Settings\thelma\Mis documentos\Documentos Thelma\CLASES\deshid grave.jpg"/>
          <p:cNvPicPr/>
          <p:nvPr/>
        </p:nvPicPr>
        <p:blipFill>
          <a:blip r:embed="rId3"/>
          <a:stretch/>
        </p:blipFill>
        <p:spPr>
          <a:xfrm>
            <a:off x="3635280" y="3357720"/>
            <a:ext cx="4249800" cy="322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entury Schoolbook"/>
              </a:rPr>
              <a:t>EL AGUA ES VIDA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63" name="6 Marcador de contenido" descr="desierto.jpg"/>
          <p:cNvPicPr/>
          <p:nvPr/>
        </p:nvPicPr>
        <p:blipFill>
          <a:blip r:embed="rId1"/>
          <a:stretch/>
        </p:blipFill>
        <p:spPr>
          <a:xfrm>
            <a:off x="468360" y="1628640"/>
            <a:ext cx="3510000" cy="2351160"/>
          </a:xfrm>
          <a:prstGeom prst="rect">
            <a:avLst/>
          </a:prstGeom>
          <a:ln w="0">
            <a:noFill/>
          </a:ln>
        </p:spPr>
      </p:pic>
      <p:pic>
        <p:nvPicPr>
          <p:cNvPr id="364" name="7 Marcador de contenido" descr="desierto florido.jpg"/>
          <p:cNvPicPr/>
          <p:nvPr/>
        </p:nvPicPr>
        <p:blipFill>
          <a:blip r:embed="rId2"/>
          <a:stretch/>
        </p:blipFill>
        <p:spPr>
          <a:xfrm>
            <a:off x="4270320" y="2685960"/>
            <a:ext cx="3657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PERDIDAS PATOLOG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3360"/>
          <a:ext cx="7488360" cy="4863960"/>
        </p:xfrm>
        <a:graphic>
          <a:graphicData uri="http://schemas.openxmlformats.org/drawingml/2006/table">
            <a:tbl>
              <a:tblPr/>
              <a:tblGrid>
                <a:gridCol w="2868840"/>
                <a:gridCol w="2333520"/>
                <a:gridCol w="2286000"/>
              </a:tblGrid>
              <a:tr h="27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na Ra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ubadora (RN 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t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o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ad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ilador humid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queost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TO GASTROINTEST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m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ión de S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/An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CELA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enaje quirúr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otiroid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er espa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DE ADMINISTR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: Reg 0, deshidratación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Grado de deshidrat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Osmola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s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ndemnidad de la función re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s de Gastroenteritis Aguda estudios demuestran que el aporte por vía oral a través de Gastroclisis, sonda nasogástrica son mejor tolerados y pueden reponer el déficit en pocas horas (4 HORAS), lo que evitaría la hospitalizació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n Sales de Rehidratación con Na⁺ 45 – 60 meq/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1f497d"/>
                </a:solidFill>
                <a:latin typeface="Century Schoolbook"/>
              </a:rPr>
              <a:t>HIDRATACION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18556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lucosa 111 mM/L (20 g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odio 90 mEq/L (lactantes sodio 45-60mEq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tasio 2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itrato 3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ruro 8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43000" y="1752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LUCION 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e puede ser calculado en deshidratación leve o moderada de la siguiente form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Hidratación límite o deshidratación lev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-10 ml/k después de cada deposi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5ml  a 10 ml o 1 -2 cucharada cada 5 minutos administrar en 2 a 4 hor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2 ml/K después de cada vómi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leve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50cc/K = 415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5cc (60cc/hr) a 10 cc (120cc/hr) cada 5 minutos por 4 horas =  240cc a 48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 – 15 cc/K (83 - 124 cc) por 4 horas = 330 - 498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eshidratación Moderad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50 – 100 ml/K/hr administrar en 2  a 4 ho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20 ml o 4 cucharada cada 5 minutos (240 cc/h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Si no tolera, administrar bolo Suero Fisiológico 20cc/K y continuar con aporte ví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moderado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100 cc/K = 83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15cc (180cc/hr) a 20 cc (240 cc/hr) cada 5 minutos por 4 horas =  720cc a 96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– 30 cc/K (166 -  249 cc) por 4 horas = 664 - 996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hospitalizados se ha preferido la utilización de la vía parenteral que permite un aporte directo al intravascula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 en el caso de  pacientes, en cond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h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shidratados sever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prometidos de concienc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le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 ayun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AGUA ES EL PRINCIPAL COMPONENTE DEL ORGANISM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395280" y="2278080"/>
          <a:ext cx="8345520" cy="33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8080"/>
                    <a:ext cx="83455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55640" y="1901880"/>
          <a:ext cx="6718320" cy="4041720"/>
        </p:xfrm>
        <a:graphic>
          <a:graphicData uri="http://schemas.openxmlformats.org/drawingml/2006/table">
            <a:tbl>
              <a:tblPr/>
              <a:tblGrid>
                <a:gridCol w="843120"/>
                <a:gridCol w="1365120"/>
                <a:gridCol w="944640"/>
                <a:gridCol w="1363680"/>
                <a:gridCol w="2201760"/>
              </a:tblGrid>
              <a:tr h="102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.  PATOLO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.: Pacte. de 10 K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  Le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ó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(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500 + 300 =   18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 Mode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 (10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4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000 + 400 = 2.4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 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l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(1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500 + 400 = 2.9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39"/>
          <p:cNvSpPr/>
          <p:nvPr/>
        </p:nvSpPr>
        <p:spPr>
          <a:xfrm>
            <a:off x="755640" y="1281600"/>
            <a:ext cx="60483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culo de aporte de volumen seg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grado de deshidrataci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administra la mitad del volumen en las primeras 8 horas y el resto en las próximas 16 horas. O se calcula en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os en urgencia recuperan déficit en 4 hrs. Y realiment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la rehidratación debe evaluarse clínicamente de manera continua y reevaluar el aporte si es neces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en deshidrataciones hipertónicas la reposición del déficit debe ser más lenta y por tanto se calcula la mitad del déficit para las primeras 24 hora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compromiso hemodinámico o shock se debe administrar bolos de Sol. Fisiológica 20cc/K en 20 minutos, repetir hasta lograr mejoría en estado hemodinámic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no recuperar presiones puede administrarse soluciones coloidales y luego instalar CVC para administrar drogas vasoac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TIPO DE FLUIDO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sanos la administración de fluidos endovenosos debería ser dado en solución salina (Suero fisiológico 0,9%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ₒ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reparados con glucosa 5% + electrolitos (Na⁺ 70meq/lt + K⁺ si la función renal está conservada) esto último para asegurar aporte de glucosa a nivel cerebral, disminuir el catabolismo proteico y evitar la cetoacidosi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ar soluciones bajas en electrolitos y mantenidas en el tiempo, contribuye a aumentar el riesgo de hiponatrem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EPARADOS DE NAC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1 g de NaCl aporta 17 mEq de Na y 17 mEq de C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Usamos NaCl 10%, o sea que en l0 cc de NaCl 10% tenemos 1 g de este compuesto, vale decir 17 mEq de Na (1,7 mEq/ml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10 cc de NaCl 10% en 500 cc de solución glucosada 5%, estamos poniendo 17 mEq de sodio en medio litro de solución, o sea, 34 mEq en 1 litr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20 cc NaCl 10% en 1000cc de SG 5%, aportaremos 68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SOLUCIONES SEGÚN TIPO OSMO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Tonicidad de la solución según tipo osmol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Desh. hipertónica (natremia &gt;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30 - 4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isotónica (natremia 130 -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50 - 6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(natremia 120 - 13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70 - 8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severa (natremia &lt; 120):Tonic. 80 - 10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IMERA PART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4" name="6 Marcador de posición de imagen" descr="http://2.bp.blogspot.com/-MoWk1mUF5Jk/UZpPQHZneQI/AAAAAAAAA6U/QSsZv0802D8/s1600/breakandcontinue.jpg"/>
          <p:cNvPicPr/>
          <p:nvPr/>
        </p:nvPicPr>
        <p:blipFill>
          <a:blip r:embed="rId1"/>
          <a:stretch/>
        </p:blipFill>
        <p:spPr>
          <a:xfrm>
            <a:off x="1476360" y="1484280"/>
            <a:ext cx="5165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TOMAMOS FELICES!!!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3 Imagen" descr="http://pensamientospositivos9.files.wordpress.com/2011/08/r-positivo-_1.jpeg?w=300&amp;h=200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KALEMIA sobre 5,5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´CAUS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emóli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idosis metaból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uficiencia Renal 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oaldosteronismo (HSRC perdedora de s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ármacos: (-) ECA, AI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Rectángulo"/>
          <p:cNvSpPr/>
          <p:nvPr/>
        </p:nvSpPr>
        <p:spPr>
          <a:xfrm>
            <a:off x="539640" y="90792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la cantidad de un sustrato o nutriente que asegura la integridad y  buen funcionamiento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 BASAL: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el requerimiento de un individuo en condiciones metabólicas ba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COMEND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es una cantidad mayor que el requerimiento y que pretende asegurar un adecuado aporte a los individuos de una población, considerando la variabilidad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TAMIENTO: Monitorización UPC o U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sinas de Intercambio Ionico: Kayexe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gr/K rectal u oral diluido el glu HT (30 o 50%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luconato de Calcio ev lento 1cc/k en 30 minutos, seguido de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&lt;bicarbonato de Na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1 meq/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lucosa + Insul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lt; 135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atrogen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sminución del volumen circulante: pérdidas gastrointestinales (diarrea, vómitos), Dérmicas FQ), Renales (Nefropatía perdedora de sal, diuréticos, hipoaldosteronismo, Estado edematoso (I. Crdíaca, cirrosis, Sd. Nefrót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uréticos tiazíd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. Renal: Ag y C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xceso ADH (Secreción inapropiad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hay compromiso neurológico (cefalea, náuseas, CEG, letargia, convulsion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olución Salina HT 3% (NaCl 10% diluído 1/3 + 2/3 SG 5%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Objetivo llevar Natremia a 125 meq/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éficit= (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eado - Na⁺ actual)x 0,3x pe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BIC     1-2meq/lt/h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dealmente el  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no debe ser mayor a 10-15meq/d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no hay compromiso neurológico no requiere corrección con solución salina 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050920" y="3716280"/>
            <a:ext cx="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2771640" y="4220640"/>
            <a:ext cx="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ER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 145-15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de agua lib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poner el 50% del déficit en las primeras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iendo del valor de 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rregir con soluciones 40-30-2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velocidad de corrección no &gt; 1 meq/Hr o 15 meq/24 h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CAPITULEM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838080" y="685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CID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stado fisiopatológic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hay más ácido 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enos base de l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LCAL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ay más base o menos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 de lo 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Century Schoolbook"/>
              </a:rPr>
              <a:t>ALTERACIONES ÁCIDO - BÁSICAS: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Des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Parcialmente 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27"/>
          <p:cNvSpPr/>
          <p:nvPr/>
        </p:nvSpPr>
        <p:spPr>
          <a:xfrm>
            <a:off x="942480" y="1600200"/>
            <a:ext cx="69843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+   H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+ 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28"/>
          <p:cNvGrpSpPr/>
          <p:nvPr/>
        </p:nvGrpSpPr>
        <p:grpSpPr>
          <a:xfrm>
            <a:off x="2516040" y="1981080"/>
            <a:ext cx="1904760" cy="152280"/>
            <a:chOff x="2516040" y="1981080"/>
            <a:chExt cx="1904760" cy="152280"/>
          </a:xfrm>
        </p:grpSpPr>
        <p:sp>
          <p:nvSpPr>
            <p:cNvPr id="468" name="Line 1029"/>
            <p:cNvSpPr/>
            <p:nvPr/>
          </p:nvSpPr>
          <p:spPr>
            <a:xfrm>
              <a:off x="2516040" y="1981080"/>
              <a:ext cx="19047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30"/>
            <p:cNvSpPr/>
            <p:nvPr/>
          </p:nvSpPr>
          <p:spPr>
            <a:xfrm flipH="1">
              <a:off x="2591640" y="2133360"/>
              <a:ext cx="175284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Line 1033"/>
          <p:cNvSpPr/>
          <p:nvPr/>
        </p:nvSpPr>
        <p:spPr>
          <a:xfrm flipH="1" flipV="1">
            <a:off x="1448280" y="2502000"/>
            <a:ext cx="2160" cy="11080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34"/>
          <p:cNvSpPr/>
          <p:nvPr/>
        </p:nvSpPr>
        <p:spPr>
          <a:xfrm flipH="1" flipV="1">
            <a:off x="1600560" y="2549520"/>
            <a:ext cx="2160" cy="11080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2"/>
          <p:cNvSpPr txBox="1"/>
          <p:nvPr/>
        </p:nvSpPr>
        <p:spPr>
          <a:xfrm>
            <a:off x="609480" y="2895480"/>
            <a:ext cx="1781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osis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5943600" y="2971800"/>
            <a:ext cx="1876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calosis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3276720" y="129528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tabóli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3124080" y="4591080"/>
            <a:ext cx="219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spiratoria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AutoShape 6"/>
          <p:cNvSpPr/>
          <p:nvPr/>
        </p:nvSpPr>
        <p:spPr>
          <a:xfrm rot="19884600">
            <a:off x="1905120" y="22856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 rot="2404800">
            <a:off x="1790280" y="39240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rot="8585400">
            <a:off x="5029200" y="411408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 rot="13384200">
            <a:off x="5105520" y="220896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Sin título2"/>
          <p:cNvPicPr/>
          <p:nvPr/>
        </p:nvPicPr>
        <p:blipFill>
          <a:blip r:embed="rId1"/>
          <a:stretch/>
        </p:blipFill>
        <p:spPr>
          <a:xfrm>
            <a:off x="380880" y="700200"/>
            <a:ext cx="85345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CONTROL DE LA OSMOLARIDAD PLASMÁTICA Y DEL VOLUMEN INTRAVASCU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2349000"/>
            <a:ext cx="74674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DH:  AUMENTO DE OSMOLARIDAD, EN TUBULO COLECTOR PRODUCE APERTURA CANALES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D: ESTIMULADA POR OSMORECEPT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Y BARORECEP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MBOS MECANISMOS LLEVAN A UN AUMENTO DEL AGUA Y DISMINUCION OSMO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026" descr="Sin título3"/>
          <p:cNvPicPr/>
          <p:nvPr/>
        </p:nvPicPr>
        <p:blipFill>
          <a:blip r:embed="rId1"/>
          <a:stretch/>
        </p:blipFill>
        <p:spPr>
          <a:xfrm>
            <a:off x="304920" y="1028880"/>
            <a:ext cx="8426160" cy="54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in título1"/>
          <p:cNvPicPr/>
          <p:nvPr/>
        </p:nvPicPr>
        <p:blipFill>
          <a:blip r:embed="rId1"/>
          <a:stretch/>
        </p:blipFill>
        <p:spPr>
          <a:xfrm>
            <a:off x="1066680" y="173160"/>
            <a:ext cx="69343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GASES EN SANGR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H: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informa sobre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hidrogeni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CO</a:t>
            </a:r>
            <a:r>
              <a:rPr b="0" lang="es-MX" sz="1400" spc="-1" strike="noStrike">
                <a:solidFill>
                  <a:srgbClr val="ff3300"/>
                </a:solidFill>
                <a:latin typeface="Century Schoolbook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informa sobre el component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respirato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Déficit de base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informa sobre el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omponente metaból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Bicarbonato estándar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es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bicarbonato que existiría con una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PCO2 de 40 mm H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1 gramo de bicarbonato de sodio aporta 11,9 mEq de ion sodio y 11,9 mEq de ion    bicarbon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/6 M: 0,1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2/3 M: 0,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5%: 0,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Bicarbonato 8,4%: 1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0%: 1,2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CÁLCULO DE BICARBONA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.B. X peso del paciente X 0,6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(de esta cantidad se aporta sólo la mitad en las primeras 24 hor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3 a 5 mEq/K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CORRECCIÓN ACIDOSI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H &lt; 7,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icarbonato st &lt; 12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 valores mayores si hay pérdidas aumentadas y manteni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D los valores son: pH &lt;6,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Al corregir acidosis con bicarbonato se modifica concentración d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otas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K+ vuelve al compartimiento intracelular. Potasio corregido se obtiene restando 0,6 mEq por cada décima de pH que se corri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Calc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a++ vuelve a hueso. Corrección rápida lleva a riesgo de hipocalcem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195280" y="44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entury Schoolbook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5" name="Picture 1" descr="C:\Documents and Settings\thelma\Mis documentos\Documentos Thelma\CLASES\NIÑOS.jpg"/>
          <p:cNvPicPr/>
          <p:nvPr/>
        </p:nvPicPr>
        <p:blipFill>
          <a:blip r:embed="rId1"/>
          <a:stretch/>
        </p:blipFill>
        <p:spPr>
          <a:xfrm>
            <a:off x="1908000" y="549360"/>
            <a:ext cx="63597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REGULACION DEL VOLUMEN INTRAVASCULAR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alance de Sodio (Na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 consumo y la excreción ocurre a nivel renal, este a su vez depende de la filtración glomerular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úbulo proximal se reabsorbe el 65% del Na⁺ filtrado, el resto se reabsorbe en el asa de Henle y finalmente a nivel del túbulo distal por acción de aldosterona que produce reabsorción de Na⁺ y excreción de Potasio (K⁺)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ualquier cambio en estos factores llevará a un aumento o disminución en la concentración de Na⁺ y/o K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C:\Documents and Settings\thelma\Mis documentos\Documentos Thelma\CLASES\bebes_necesitan_beber_agua.jpg"/>
          <p:cNvPicPr/>
          <p:nvPr/>
        </p:nvPicPr>
        <p:blipFill>
          <a:blip r:embed="rId1"/>
          <a:stretch/>
        </p:blipFill>
        <p:spPr>
          <a:xfrm>
            <a:off x="5867280" y="220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700280"/>
            <a:ext cx="7467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necesidades basales de agua están dadas p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s pérdidas insensibles (piel, pulmones)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érdidas obligadas por orina y deposiciones 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or la actividad dinámica específic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dicionalmente se ha utilizado la fórmula de Holliday que permite el rápido cálculo de volumen  y homologa el gasto calórico a las necesidades de agua y se calcula según lo siguien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ml o kcal/Kg los primero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0 ml o Kcal/Kg los siguientes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ml o kcal/Kg desde los 20 Kg en adel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0:21:01Z</dcterms:created>
  <dc:creator>Valued Packard Bell Customer</dc:creator>
  <dc:description/>
  <dc:language>en-US</dc:language>
  <cp:lastModifiedBy>Usuario</cp:lastModifiedBy>
  <dcterms:modified xsi:type="dcterms:W3CDTF">2015-04-17T02:04:10Z</dcterms:modified>
  <cp:revision>48</cp:revision>
  <dc:subject/>
  <dc:title>Diapositiva 1</dc:title>
</cp:coreProperties>
</file>